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png" ContentType="image/png"/>
  <Override PartName="/ppt/media/image11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E616-69A7-467B-B6F6-9268121437B9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6072-F290-4385-AB57-08FB73673E40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Palatino Linotyp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62C0-B677-48F9-8D1A-844D5DFAC8E2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E001-8D7B-4E26-80EE-AF98DF25DD98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4B1C-F4B1-47C4-A4BC-02F30372BF0A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B251-C9AC-49AC-81EC-23A8E95AA220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E8A2-37AF-45A5-A578-E5A15B1D7306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3E4D-7726-4BEE-9513-406BB9C59221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93E1-3261-4644-8CB3-F77AED145BB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701F-DB5A-4696-95B1-3C8903208E7C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6236-4C5C-467B-AE1E-358EB53FC23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D45C-3C79-41CE-A092-FAF41647D36A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49A9-ACE9-48A6-B2F2-525A766C89E4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2593-8805-4FAA-AF65-C070C5A26864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DBD8-572B-4201-9F21-E63C0B2F8A73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A3A2-EC68-42F0-AFFF-27ACA7BA4D76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FF2B-B1EF-4F42-977B-14DDE82C92D4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AA68-3ABB-4226-9525-F795F72D884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9CA9-F816-45BD-96FA-75E2CBA1E2A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644F-A1A2-4C75-9C54-4D379721090A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4EB1-FEA7-4BBD-91A8-3623EEACD8D4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529C-FE86-4425-90F0-E3B8ED4858C4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FC88-6D53-4D9A-908A-63C4E8C602E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871E-DDFD-4FFE-B03C-5FD2FA797E59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8591-B36A-47E1-A570-5F93D1CE897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C141-F017-4978-9F2F-07299198245A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B797-FBB4-4CF0-A170-C4723077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B574-B95F-48C5-8D56-22DAF8DD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AA63-6E65-4942-890B-96AF42A2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8FD7-67CA-416F-BE95-68BB13A0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5635-6E74-4BC9-99E3-9E2D0726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61C4-8965-4D2E-8C67-D5764E33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B483-E99B-422D-8C06-5F7E64FC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440C-0CC3-409A-B5C9-A7DC5B89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E0C0-D8D5-4F55-B5C1-48BDB191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57CD-B79B-416A-ADF7-BCA45124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E6D4-5AFB-4647-ABEC-7ECC0ECF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D523-4192-44D4-9715-26E26E79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B0D7-8720-47B9-AF7F-DA1B6C58DB5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F478-411C-4178-9410-A9D6188B245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ХИРУРГИЈА МАКСИЛАРНОГ СИНУСА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440"/>
            <a:ext cx="8642520" cy="17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10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28-30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Анатомска и хистолошка разматрања, клинички преглед и дијагностика,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акутни и хронички синузитис,повреде синуса приликом вађења зуба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                 </a:t>
            </a:r>
            <a:r>
              <a:rPr b="1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Мирослав Васовић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74560" y="6180120"/>
            <a:ext cx="786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1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 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B1D6-21A4-434C-A525-BBC4742E432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33440" y="1636560"/>
            <a:ext cx="8373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алпациј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кстраорална палпација предњег зида максиларног синуса и интраорална палпација предела тубера врши се у случајевима сумње на запаљенска обољења максиларних син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еркусиј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д обољења максиларног синуса често су перкуторно осетљиви сви зуби горње вилице на оболелој стра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55D6-2074-491A-A82F-96D89F25992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444600" y="1623960"/>
            <a:ext cx="81817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433440" y="1587600"/>
            <a:ext cx="8265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ОСТАЛИ МЕТОДИ ПРЕГЛ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роба дувања на нос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ke58"/>
          <p:cNvPicPr/>
          <p:nvPr/>
        </p:nvPicPr>
        <p:blipFill>
          <a:blip r:embed="rId1"/>
          <a:srcRect l="15342" t="0" r="17918" b="-648"/>
          <a:stretch/>
        </p:blipFill>
        <p:spPr>
          <a:xfrm>
            <a:off x="2719440" y="2575080"/>
            <a:ext cx="374328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8E07-960D-472B-B0BD-5A3637DF634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444600" y="1757520"/>
            <a:ext cx="8434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РАДИОГРАФСКО ИСПИТИВ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ромена транспаренције максиларног син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д здравих особа слузокожа максиларних синуса је представљ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 ртг снимку 1-2 мм периферном зоном благог засенчења које прати конфигурацију коштаних зид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C:\Users\Zoran\Downloads\oralna hirurgija\slike\sinus maxillaris.jpg"/>
          <p:cNvPicPr/>
          <p:nvPr/>
        </p:nvPicPr>
        <p:blipFill>
          <a:blip r:embed="rId1"/>
          <a:stretch/>
        </p:blipFill>
        <p:spPr>
          <a:xfrm>
            <a:off x="4654440" y="4187880"/>
            <a:ext cx="25495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95FC-5366-4B3A-A1A2-9E88EFE59BC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C:\Users\Zoran\Downloads\oralna hirurgija\slike\download (38).jpg"/>
          <p:cNvPicPr/>
          <p:nvPr/>
        </p:nvPicPr>
        <p:blipFill>
          <a:blip r:embed="rId1"/>
          <a:stretch/>
        </p:blipFill>
        <p:spPr>
          <a:xfrm>
            <a:off x="733320" y="1960560"/>
            <a:ext cx="3527640" cy="3527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C:\Users\Zoran\Downloads\oralna hirurgija\slike\pa.jpg"/>
          <p:cNvPicPr/>
          <p:nvPr/>
        </p:nvPicPr>
        <p:blipFill>
          <a:blip r:embed="rId2"/>
          <a:stretch/>
        </p:blipFill>
        <p:spPr>
          <a:xfrm>
            <a:off x="5234040" y="1935000"/>
            <a:ext cx="2949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0" y="6424560"/>
            <a:ext cx="4003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B936-37C9-4E50-91DF-5B0FCD55692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33440" y="1671480"/>
            <a:ext cx="8240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469800" y="1852560"/>
            <a:ext cx="819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рисуство сек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C:\Users\Zoran\Downloads\oralna hirurgija\slike\download (39).jpg"/>
          <p:cNvPicPr/>
          <p:nvPr/>
        </p:nvPicPr>
        <p:blipFill>
          <a:blip r:embed="rId1"/>
          <a:stretch/>
        </p:blipFill>
        <p:spPr>
          <a:xfrm>
            <a:off x="1843200" y="2803680"/>
            <a:ext cx="53989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0" y="6424560"/>
            <a:ext cx="3989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77CB-ED31-4A45-93C9-0A811582355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360360" y="1828800"/>
            <a:ext cx="854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рисуство хомогених се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C:\Users\Zoran\Downloads\oralna hirurgija\slike\download (7).jpg"/>
          <p:cNvPicPr/>
          <p:nvPr/>
        </p:nvPicPr>
        <p:blipFill>
          <a:blip r:embed="rId1"/>
          <a:stretch/>
        </p:blipFill>
        <p:spPr>
          <a:xfrm>
            <a:off x="838080" y="2652840"/>
            <a:ext cx="3019680" cy="3060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C:\Users\Zoran\Downloads\oralna hirurgija\slike\images (18).jpg"/>
          <p:cNvPicPr/>
          <p:nvPr/>
        </p:nvPicPr>
        <p:blipFill>
          <a:blip r:embed="rId2"/>
          <a:stretch/>
        </p:blipFill>
        <p:spPr>
          <a:xfrm>
            <a:off x="4137120" y="2706840"/>
            <a:ext cx="414324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F729-55D0-46FC-B48B-5B32BDC6C29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420840" y="15876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ромена континуитета коштаних зид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C:\Users\Zoran\Downloads\oralna hirurgija\slike\MaxillarySinuses.jpg"/>
          <p:cNvPicPr/>
          <p:nvPr/>
        </p:nvPicPr>
        <p:blipFill>
          <a:blip r:embed="rId1"/>
          <a:stretch/>
        </p:blipFill>
        <p:spPr>
          <a:xfrm>
            <a:off x="673200" y="2209680"/>
            <a:ext cx="3638520" cy="4032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http://www.gentili.net/images/200/Ctorbit2.jpg"/>
          <p:cNvPicPr/>
          <p:nvPr/>
        </p:nvPicPr>
        <p:blipFill>
          <a:blip r:embed="rId2"/>
          <a:stretch/>
        </p:blipFill>
        <p:spPr>
          <a:xfrm>
            <a:off x="5064120" y="264636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A32A-685D-4BBD-9A36-0D962FB376C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7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паљенска обољења максиларног синус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1166760" y="19494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444600" y="1623960"/>
            <a:ext cx="8242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ко 90% случајева недентогене етиолог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АКУТНИ ДЕНТОГЕНИ СИНУЗ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тко обољење, које узрокује појаву локалних и општих симптома инфек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Бол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локализован у пределу средње трећине лица, константан, дубок и ирадира ка горњим зубима медијално ка носу и образ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ол се појачава при сваком покрету главе јер накупљени секрет врши притисак на нервне завршетке у слузокожи син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Чести симптоми су и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непријатан задах , секреција из носа и непријатан укус у уст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0" y="6424560"/>
            <a:ext cx="4017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741B-3115-4D08-99D7-079204E31D0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4600" y="-360"/>
            <a:ext cx="800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паљенска обољења максиларног синус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385920" y="1792440"/>
            <a:ext cx="8445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пшти симптоми инфекције су: повишена температура, општа слабост и главобољ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иолошки се констатује хомогено и потпуно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засенчење синусне шупљин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зрок је по правилу увек присутан у устима ( авиталан зуб са чијег корена се инфекција преноси у синус или присутна екстракциона рана са карактеристичним изгледом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Лечењ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: антибиотици, деконгестија носне слузокоже и обезбеђење дренаже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79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паљенска обољења максиларног синус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4271-3B16-428E-B1CA-4E1477AEFF5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385920" y="1768320"/>
            <a:ext cx="8313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ХРОНИЧНИ ДЕНТОГЕНИ СИНУЗ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дуготрајно запаљење слузокоже синуса које се карактерише пролиферацијом епитела и стварањем полипозних формација, као и метаплазијом епитела од респираторног ка плочастослојевитом тип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Често је дентогено узрокован (ороантралне комуникације, страна тела и д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740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E063-A558-41EB-80A8-691A4FFE715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Максиларни синус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457200" y="161280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лази се у телу горње вилице, облика је тростране пирамиде са базом која чини бочни зид носне дупљ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sinus020"/>
          <p:cNvPicPr/>
          <p:nvPr/>
        </p:nvPicPr>
        <p:blipFill>
          <a:blip r:embed="rId1"/>
          <a:srcRect l="14866" t="16293" r="24095" b="266"/>
          <a:stretch/>
        </p:blipFill>
        <p:spPr>
          <a:xfrm>
            <a:off x="2394000" y="2454120"/>
            <a:ext cx="429408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7AC5-E57E-4AE7-9808-FC5D9A72909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788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паљенска обољења максиларног синус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433440" y="1841400"/>
            <a:ext cx="8192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линички знаци хроничног синузитиса су веома благи и неспецифични, тако да обољење често бива откривено случајним радиографским испитивањем због других про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ронични синузитис се карактерише појавом секрета који се слива у назофарингс, секретом и задахом из но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највећем броју случајева, узрок је претходно створена ороантрална комуникација која или није дијагностикована или је погрешно леч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CF26-83D6-45B7-ABE2-D08E1C0E30E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632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Запаљенска обољења максиларног синус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74" name="TextBox 6"/>
          <p:cNvSpPr/>
          <p:nvPr/>
        </p:nvSpPr>
        <p:spPr>
          <a:xfrm>
            <a:off x="372960" y="1647720"/>
            <a:ext cx="8350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ечење хроничног денталног синузитиса подразумева, пре свега, хируршко лечење узрока обољења, док је медикаментно само привремено и изводи се са циљем припреме за дефинитивно хируршко лече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ирурчко лечење подразумева уклањање промењене слузокоже синуса, као и стварање артефицијалне дренаже синуса применом различитих оперативних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0" y="6424560"/>
            <a:ext cx="3989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E23B-A375-46CB-8542-7AF0D6344BB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706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овреде синуса приликом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385920" y="1647720"/>
            <a:ext cx="833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зроци могу би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-  Анатомски разло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C:\Users\Zoran\Downloads\oralna hirurgija\slike\imagesrt.jpg"/>
          <p:cNvPicPr/>
          <p:nvPr/>
        </p:nvPicPr>
        <p:blipFill>
          <a:blip r:embed="rId1"/>
          <a:stretch/>
        </p:blipFill>
        <p:spPr>
          <a:xfrm>
            <a:off x="2787480" y="2809800"/>
            <a:ext cx="3454560" cy="33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A20C-3D64-4ABB-8234-89F7D901A2A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716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овреде синуса приликом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5" name="TextBox 9"/>
          <p:cNvSpPr/>
          <p:nvPr/>
        </p:nvSpPr>
        <p:spPr>
          <a:xfrm>
            <a:off x="469800" y="16970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-  Инфламаторни процеси на врху корен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C:\Users\Zoran\Downloads\oralna hirurgija\slike\proximity_of_peri-apical_lesions_to_the_maxillary_sinus_floor.jpg"/>
          <p:cNvPicPr/>
          <p:nvPr/>
        </p:nvPicPr>
        <p:blipFill>
          <a:blip r:embed="rId1"/>
          <a:srcRect l="0" t="0" r="920" b="17671"/>
          <a:stretch/>
        </p:blipFill>
        <p:spPr>
          <a:xfrm>
            <a:off x="2085840" y="2525760"/>
            <a:ext cx="4614840" cy="33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1B3B-4C76-452F-BD4B-071B27668CE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760" y="-360"/>
            <a:ext cx="767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овреде синуса приликом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91" name="TextBox 11"/>
          <p:cNvSpPr/>
          <p:nvPr/>
        </p:nvSpPr>
        <p:spPr>
          <a:xfrm>
            <a:off x="433440" y="1697040"/>
            <a:ext cx="82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-  Јатрогени узро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ke55"/>
          <p:cNvPicPr/>
          <p:nvPr/>
        </p:nvPicPr>
        <p:blipFill>
          <a:blip r:embed="rId1"/>
          <a:stretch/>
        </p:blipFill>
        <p:spPr>
          <a:xfrm>
            <a:off x="312840" y="2575080"/>
            <a:ext cx="3962160" cy="3027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ke57"/>
          <p:cNvPicPr/>
          <p:nvPr/>
        </p:nvPicPr>
        <p:blipFill>
          <a:blip r:embed="rId2"/>
          <a:srcRect l="13814" t="0" r="9872" b="6489"/>
          <a:stretch/>
        </p:blipFill>
        <p:spPr>
          <a:xfrm>
            <a:off x="5016600" y="2382840"/>
            <a:ext cx="3490920" cy="32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FBBB-5AC9-46EE-BB7E-ED1089285FF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Дијагноза ороантралних комуникац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98" name="TextBox 8"/>
          <p:cNvSpPr/>
          <p:nvPr/>
        </p:nvSpPr>
        <p:spPr>
          <a:xfrm>
            <a:off x="312840" y="1697040"/>
            <a:ext cx="8434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Рани симптоми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– позитивна проба дувања на но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олаз течности кроз ноздрву приликом испирања уста после вађења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некад пацијенти одмах после вађења зуба могу осетити струјање ваздуха између уста и но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Одложени симптоми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– неколико сати после њеног наста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еномен пробушеног цигарет папира или немогућност стварања вакума у устима. Немогућност надувавања образа. Једнострано крварење на н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озни симптоми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– се јављају због хроничне инфламације синуса, када комуникација добија све особине фисту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0" y="6424560"/>
            <a:ext cx="4003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BC45-84AC-4DD8-8DD8-4A274C6BDA0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Дијагноза ороантралних комуникац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409680" y="1684440"/>
            <a:ext cx="8180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ЗНАЦИ СВЕЖЕ ОРОАНТРАЛНЕ КОМУНИК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оба дувања на нос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ондирање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englezi2-sl16"/>
          <p:cNvPicPr/>
          <p:nvPr/>
        </p:nvPicPr>
        <p:blipFill>
          <a:blip r:embed="rId1"/>
          <a:stretch/>
        </p:blipFill>
        <p:spPr>
          <a:xfrm>
            <a:off x="2576520" y="2790720"/>
            <a:ext cx="4237200" cy="35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4E6E-A419-45D2-B1B2-D3736DF6599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Дијагноза ороантралних комуникациј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420840" y="1697040"/>
            <a:ext cx="816912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ЗНАЦИ ОРОАНТРАЛНЕ ФИСТ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 месту извађеног зуба рана не зараста у потпу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обом дувања може да се поја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урулентни садржа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-  сондирањем се може дијагностиков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муникација алвеоле и син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8" descr="C:\Users\Zoran\Downloads\oralna hirurgija\slike\download (38).jpg"/>
          <p:cNvPicPr/>
          <p:nvPr/>
        </p:nvPicPr>
        <p:blipFill>
          <a:blip r:embed="rId1"/>
          <a:stretch/>
        </p:blipFill>
        <p:spPr>
          <a:xfrm>
            <a:off x="5762520" y="2995560"/>
            <a:ext cx="2951280" cy="2951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9"/>
          <p:cNvSpPr/>
          <p:nvPr/>
        </p:nvSpPr>
        <p:spPr>
          <a:xfrm>
            <a:off x="289080" y="5041800"/>
            <a:ext cx="51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СУТНИ СУ И ЗНАЦИ СИНУЗИТИ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0F8C-329E-4EA7-B060-73C9478F86F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760" y="14580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овреда синуса после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409680" y="1511280"/>
            <a:ext cx="8324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КОНЗЕРВАТИВНА МЕТОДА ЛЕЧ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метод којим се обезбеђује стварање и очување коагулума у рани извађеног зуба. ( дубоке и уске једнокорене алвеоле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ke60"/>
          <p:cNvPicPr/>
          <p:nvPr/>
        </p:nvPicPr>
        <p:blipFill>
          <a:blip r:embed="rId1"/>
          <a:srcRect l="10662" t="6562" r="19438" b="17214"/>
          <a:stretch/>
        </p:blipFill>
        <p:spPr>
          <a:xfrm>
            <a:off x="2141640" y="3019320"/>
            <a:ext cx="456876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овреда синуса после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E139-ACAE-4277-96DE-ADAAAEE0E55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9"/>
          <p:cNvSpPr/>
          <p:nvPr/>
        </p:nvSpPr>
        <p:spPr>
          <a:xfrm>
            <a:off x="469800" y="1757520"/>
            <a:ext cx="813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ХИРУРШКА МЕТОДА ЛЕЧЕЊ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е се користе локални режњев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укал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алатинал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мбиновани ( букопалатинални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о је поступак којим се изводи пластика дефекта и затвара комуникација између усне и синусне шупљ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Максиларни синус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8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1F50-CC12-44B4-A73D-772BD8DC2EA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434880" y="1914480"/>
            <a:ext cx="8418600" cy="31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тепен пнеуматиз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- 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добро пнеуматизован синус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дно синуса  од очњака или латералног секутића до умња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средње пнеуматизован синус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дно синуса од другог премолара до умња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слабо пнеуматизован синус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дно синуса само изнад првог и другог мола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146A-4B33-4ABB-B0AF-AABAD32449F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овреда синуса после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433440" y="1623960"/>
            <a:ext cx="8217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СВЕЖА КОМУНИКАЦИЈА БЕЗ СТРАНОГ ТЕЛА И ИНФЕ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ластика синуса букалним режњем 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Wassmund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8" descr="C:\Users\Zoran\Downloads\oralna hirurgija\slike\preview_html_m1755394b.gif"/>
          <p:cNvPicPr/>
          <p:nvPr/>
        </p:nvPicPr>
        <p:blipFill>
          <a:blip r:embed="rId1"/>
          <a:stretch/>
        </p:blipFill>
        <p:spPr>
          <a:xfrm>
            <a:off x="1122480" y="3416400"/>
            <a:ext cx="3638520" cy="2438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C:\Users\Zoran\Downloads\oralna hirurgija\slike\preview_html_m13072c13.gif"/>
          <p:cNvPicPr/>
          <p:nvPr/>
        </p:nvPicPr>
        <p:blipFill>
          <a:blip r:embed="rId2"/>
          <a:stretch/>
        </p:blipFill>
        <p:spPr>
          <a:xfrm>
            <a:off x="5403960" y="3173400"/>
            <a:ext cx="268128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7C83-ABDF-49F1-9E84-6A3CF30A6DF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овреда синуса после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34" name="Picture 9" descr="C:\Users\Zoran\Downloads\oralna hirurgija\slike\preview_html_56653c8e.gif"/>
          <p:cNvPicPr/>
          <p:nvPr/>
        </p:nvPicPr>
        <p:blipFill>
          <a:blip r:embed="rId1"/>
          <a:stretch/>
        </p:blipFill>
        <p:spPr>
          <a:xfrm>
            <a:off x="449280" y="2227320"/>
            <a:ext cx="3870360" cy="3132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C:\Users\Zoran\Downloads\oralna hirurgija\slike\preview_html_75389ddb.gif"/>
          <p:cNvPicPr/>
          <p:nvPr/>
        </p:nvPicPr>
        <p:blipFill>
          <a:blip r:embed="rId2"/>
          <a:stretch/>
        </p:blipFill>
        <p:spPr>
          <a:xfrm>
            <a:off x="4710240" y="2212920"/>
            <a:ext cx="384480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овреда синуса после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37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B63C-705A-4F62-905D-1F1216E2222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C:\Users\Zoran\Downloads\oralna hirurgija\slike\JIndianSocPeriodontol_2013_17_3_354_115666_f8.jpg"/>
          <p:cNvPicPr/>
          <p:nvPr/>
        </p:nvPicPr>
        <p:blipFill>
          <a:blip r:embed="rId1"/>
          <a:stretch/>
        </p:blipFill>
        <p:spPr>
          <a:xfrm>
            <a:off x="528480" y="1373040"/>
            <a:ext cx="3287880" cy="32864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Zoran\Downloads\oralna hirurgija\slike\JIndianSocPeriodontol_2013_17_3_354_115666_f9.jpg"/>
          <p:cNvPicPr/>
          <p:nvPr/>
        </p:nvPicPr>
        <p:blipFill>
          <a:blip r:embed="rId2"/>
          <a:stretch/>
        </p:blipFill>
        <p:spPr>
          <a:xfrm>
            <a:off x="4975200" y="1365120"/>
            <a:ext cx="3481560" cy="34815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Zoran\Downloads\oralna hirurgija\slike\JIndianSocPeriodontol_2013_17_3_354_115666_f14.jpg"/>
          <p:cNvPicPr/>
          <p:nvPr/>
        </p:nvPicPr>
        <p:blipFill>
          <a:blip r:embed="rId3"/>
          <a:stretch/>
        </p:blipFill>
        <p:spPr>
          <a:xfrm>
            <a:off x="2894040" y="3386160"/>
            <a:ext cx="312084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7791-67C8-4FF6-806B-C50B25B26DA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овреда синуса после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47" name="TextBox 8"/>
          <p:cNvSpPr/>
          <p:nvPr/>
        </p:nvSpPr>
        <p:spPr>
          <a:xfrm>
            <a:off x="457200" y="1455840"/>
            <a:ext cx="8193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ластика синуса букалним транспозиционим режњ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xhausen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нас се користи изузетно рет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ластика синуса палатиналним  транспозиционим режњ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shley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C:\Users\Zoran\Downloads\oralna hirurgija\slike\Closure_of_OAC_with_Palatal_Advancement_Flap2-731x900.jpg"/>
          <p:cNvPicPr/>
          <p:nvPr/>
        </p:nvPicPr>
        <p:blipFill>
          <a:blip r:embed="rId1"/>
          <a:srcRect l="9379" t="11330" r="186" b="25419"/>
          <a:stretch/>
        </p:blipFill>
        <p:spPr>
          <a:xfrm>
            <a:off x="2598840" y="3416400"/>
            <a:ext cx="34272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5839-E890-452C-98A4-AFA89D9548C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овреда синуса после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438120" y="1616040"/>
            <a:ext cx="8242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469800" y="1442880"/>
            <a:ext cx="8348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СВЕЖА ОРОАНТРАЛНА КОМУНИКАЦИЈА СА СТРАНИМ ТЕЛОМ У СИНУ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ластика синус модификованим букалним режњ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Wassmund-Rehrman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ke79"/>
          <p:cNvPicPr/>
          <p:nvPr/>
        </p:nvPicPr>
        <p:blipFill>
          <a:blip r:embed="rId1"/>
          <a:srcRect l="15276" t="27204" r="26985" b="23886"/>
          <a:stretch/>
        </p:blipFill>
        <p:spPr>
          <a:xfrm>
            <a:off x="2443320" y="3282840"/>
            <a:ext cx="4492440" cy="28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D314-DE75-4340-9A89-C7986244E11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6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овреда синуса после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444600" y="1647720"/>
            <a:ext cx="817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ОРОАНТРАЛНА ФИСТУЛА ( ИНФЕКЦИЈА СИНУС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дикална операција синуса 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Caldwell-Luck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ke81"/>
          <p:cNvPicPr/>
          <p:nvPr/>
        </p:nvPicPr>
        <p:blipFill>
          <a:blip r:embed="rId1"/>
          <a:stretch/>
        </p:blipFill>
        <p:spPr>
          <a:xfrm>
            <a:off x="2687760" y="2994120"/>
            <a:ext cx="4025880" cy="30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0EE1-2C16-4769-B82D-84D0D437F96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ечење повреда синуса после вађења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6" name="TextBox 7"/>
          <p:cNvSpPr/>
          <p:nvPr/>
        </p:nvSpPr>
        <p:spPr>
          <a:xfrm>
            <a:off x="488880" y="1728720"/>
            <a:ext cx="8217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ke82"/>
          <p:cNvPicPr/>
          <p:nvPr/>
        </p:nvPicPr>
        <p:blipFill>
          <a:blip r:embed="rId1"/>
          <a:stretch/>
        </p:blipFill>
        <p:spPr>
          <a:xfrm>
            <a:off x="552600" y="2349360"/>
            <a:ext cx="3863880" cy="2899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P1010016b"/>
          <p:cNvPicPr/>
          <p:nvPr/>
        </p:nvPicPr>
        <p:blipFill>
          <a:blip r:embed="rId2"/>
          <a:stretch/>
        </p:blipFill>
        <p:spPr>
          <a:xfrm>
            <a:off x="4957920" y="2225520"/>
            <a:ext cx="3860640" cy="28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Максиларни синус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3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6C39-1F34-471E-8386-51D1FBFC703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ke52"/>
          <p:cNvPicPr/>
          <p:nvPr/>
        </p:nvPicPr>
        <p:blipFill>
          <a:blip r:embed="rId1"/>
          <a:srcRect l="12294" t="14931" r="20372" b="5260"/>
          <a:stretch/>
        </p:blipFill>
        <p:spPr>
          <a:xfrm>
            <a:off x="1900080" y="1865160"/>
            <a:ext cx="51958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4680" y="14580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Максиларни синус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8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2602-80FF-4274-99EE-3B9A9154A31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353880" y="1708200"/>
            <a:ext cx="8345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аксиларни синус је, као и све остале параназалне шупљине, обложен епителом респираторног типа- цилиндричним са трепљама и пехарастим ћелиј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спод епитела се налази слој растреситог везивног  ткива  са густом мрежом капил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C:\Users\Zoran\Downloads\oralna hirurgija\slike\sluznica.png"/>
          <p:cNvPicPr/>
          <p:nvPr/>
        </p:nvPicPr>
        <p:blipFill>
          <a:blip r:embed="rId1"/>
          <a:srcRect l="0" t="14214" r="2145" b="6250"/>
          <a:stretch/>
        </p:blipFill>
        <p:spPr>
          <a:xfrm>
            <a:off x="3057480" y="3414600"/>
            <a:ext cx="28256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85DB-405D-412D-8C54-721117B2A77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384120" y="1539720"/>
            <a:ext cx="8398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АНАМН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току узимања анамнестичких података, посебну пажњу треба посветити боловима, променама које пацијент запажа у устима или средњој трећини лица, као и знацима поремећеног општег стања здравља (слабост, повишена телесна температура, главобоља.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Бол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најважнији дијагностички симптом обољења максиларних синуса, а његов карактер зависи од природе обољ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 правилу, бол је константан, локализован у дубини и појачава се при сваком покретању главе, као и приликом кашљања и кијања, када се повећава интрасинусни притис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олно подручије је типично и захвата средњу трећину лица, од медијалног угла ока до темпоралног пред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9" name="Date Placeholder 3"/>
          <p:cNvSpPr/>
          <p:nvPr/>
        </p:nvSpPr>
        <p:spPr>
          <a:xfrm>
            <a:off x="0" y="6424560"/>
            <a:ext cx="3699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A63D-CC70-46EB-AB04-0ED3796EF6C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420840" y="1623960"/>
            <a:ext cx="8253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Ирадирајући бол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 зубима горње вилице често је први симптом обољења синуса због којег пацијенти затраже помоћ прво стоматол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Непријатан задах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ноздрвама је, такође, симптом који пацијенти осећају због присуства више или мање обилне гнојне секреције у но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акође, може се јавити и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непријатан укус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устима, посебно после спавања, због сливања секрета ка назофаринг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0" y="6424560"/>
            <a:ext cx="3948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EFC8-133C-484B-9804-CB65D3409AD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409680" y="1576440"/>
            <a:ext cx="8277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КЛИНИЧКИ ПРЕГЛ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Екстраоралном инспекцијом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уочавају се промене на лицу као последица пролиферативног раста појединих тумора, посебно малиг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Интраорална инспекција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неопходан метод у дијагностици ороантралних комуникација и фи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ула, као и стања околних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оштећење слузокоже, секреција из синуса, присуство остатака зуба.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92C3-875F-4250-8D9B-6083DCF13A1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линички преглед и дијагности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433440" y="1697040"/>
            <a:ext cx="828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Интраназална инспекција ( риноскопиј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C:\Users\Zoran\Downloads\oralna hirurgija\slike\images (16).jpg"/>
          <p:cNvPicPr/>
          <p:nvPr/>
        </p:nvPicPr>
        <p:blipFill>
          <a:blip r:embed="rId1"/>
          <a:stretch/>
        </p:blipFill>
        <p:spPr>
          <a:xfrm>
            <a:off x="2576520" y="2701800"/>
            <a:ext cx="3927600" cy="298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Каја</dc:creator>
  <dc:description/>
  <dc:language>en-US</dc:language>
  <cp:lastModifiedBy>Korisnik</cp:lastModifiedBy>
  <dcterms:modified xsi:type="dcterms:W3CDTF">2019-09-09T16:03:35Z</dcterms:modified>
  <cp:revision>1616</cp:revision>
  <dc:subject/>
  <dc:title>NAZIV PREDAVANJA</dc:title>
</cp:coreProperties>
</file>